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95C-EC8A-4D03-8E21-C8435311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05F-C35A-4057-B15A-1005C9E8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F0E-4C1B-46AC-9203-2157A149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4C6-87FE-4A0D-9BCA-BDBE054F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E07-F20A-4105-AC14-DB83C64F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B2C-8D13-4488-B67F-E6DA52A9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231-A43E-438D-8DEE-88D82F68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852-E9C8-4482-BC6A-F0C27526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E5CB-8A75-49BB-8D85-814FD4FB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1D34-C4D0-4BE1-AECA-D5772EA1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0DB-FFBF-4238-B47C-EAF8EEE5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B63-2F30-4403-928B-211F392D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94E0-623E-4458-BE89-4FFED4E20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4265640"/>
            <a:ext cx="85690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عتراف بها في 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ثناء على الله بالل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مل بالجوارح بما يرضي المنع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816300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3917880" y="3716280"/>
            <a:ext cx="5016600" cy="596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2637000"/>
            <a:ext cx="8569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كل ما أنزله الله لعباده حلالاً إلا ما حرم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2924280"/>
            <a:ext cx="8136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653000"/>
            <a:ext cx="347976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239760" y="1712880"/>
            <a:ext cx="8786880" cy="488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-9360" y="92376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5222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دني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1015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زلة القرآن الكري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5799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سلام و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805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كذبون ع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قرآن وعظمته لما يحمله من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واعظ والهدى والرحمة والشفا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في علاج أمراض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لوب من الشبهات والشهو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وجيه الدعاة والمصلحين والمربين إلى الاستناد في الإصلاح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تاب والس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مة الاستقامة والإيمان وفهم القرآن والعمل به أعظم من النع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نيوية قاط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تفع بمواعظ القرآن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 الذي يبحث عن الحق ويلتزمه إذا عرف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شريع والتحليل والتحريم ح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ديم  رأي أي أحد على حكم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فتراء الكذب على الله وصاحبه مستحق ل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3"/>
          <a:stretch/>
        </p:blipFill>
        <p:spPr>
          <a:xfrm>
            <a:off x="295200" y="981000"/>
            <a:ext cx="8658360" cy="666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حموم هو : بدين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ذموم هو : على المعاصي والمحرم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214200" y="1557360"/>
            <a:ext cx="862488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30:02Z</dcterms:modified>
  <cp:revision>1969</cp:revision>
  <dc:subject/>
  <dc:title>عرض تقديمي في PowerPoint</dc:title>
</cp:coreProperties>
</file>